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marL="106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1" marL="106200" indent="-106200" algn="ctr">
              <a:buClr>
                <a:srgbClr val="b0955a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2" marL="106200" indent="-106200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3" marL="106200" indent="-106200" algn="ctr">
              <a:buClr>
                <a:srgbClr val="b0955a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4" marL="106200" indent="-106200" algn="ctr">
              <a:buClr>
                <a:srgbClr val="b0955a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5" marL="106200" indent="-106200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6" marL="106200" indent="-106200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4000"/>
          </a:bodyPr>
          <a:p>
            <a:pPr marL="2538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1" marL="253800" indent="-253800" algn="ctr">
              <a:buClr>
                <a:srgbClr val="595650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2" marL="253800" indent="-253800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3" marL="253800" indent="-253800" algn="ctr">
              <a:buClr>
                <a:srgbClr val="595650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4" marL="253800" indent="-253800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5" marL="253800" indent="-253800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6" marL="253800" indent="-253800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5" descr="words3.psd"/>
          <p:cNvPicPr/>
          <p:nvPr/>
        </p:nvPicPr>
        <p:blipFill>
          <a:blip r:embed="rId2"/>
          <a:stretch/>
        </p:blipFill>
        <p:spPr>
          <a:xfrm>
            <a:off x="482760" y="0"/>
            <a:ext cx="12129840" cy="97534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10541160" cy="37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Little Known English Facts and the History of the English Language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80"/>
                            </p:stCondLst>
                            <p:childTnLst>
                              <p:par>
                                <p:cTn id="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1148076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he word "queue" is the only word in the English language that is still </a:t>
            </a:r>
            <a:r>
              <a:rPr b="1" lang="en-GB" sz="2600" spc="-1" strike="noStrike">
                <a:solidFill>
                  <a:srgbClr val="000000"/>
                </a:solidFill>
                <a:latin typeface="Didot"/>
                <a:ea typeface="Didot"/>
              </a:rPr>
              <a:t>pronounced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 the same way when the last four letters are removed.</a:t>
            </a:r>
            <a:endParaRPr b="0" lang="en-US" sz="26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Of all the words in the English language, the word 'set' has the most definitions!</a:t>
            </a:r>
            <a:endParaRPr b="0" lang="en-US" sz="26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What is called a "French </a:t>
            </a:r>
            <a:r>
              <a:rPr b="1" lang="en-US" sz="2600" spc="-1" strike="noStrike">
                <a:solidFill>
                  <a:srgbClr val="e034fa"/>
                </a:solidFill>
                <a:latin typeface="Didot"/>
                <a:ea typeface="Didot"/>
              </a:rPr>
              <a:t>kis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" in the English speaking world is known as an "English kiss" in France!</a:t>
            </a:r>
            <a:endParaRPr b="0" lang="en-US" sz="26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"Almost" is the longest word in the English language with all the letters in alphabetical order!</a:t>
            </a:r>
            <a:endParaRPr b="0" lang="en-US" sz="2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2514600" y="762120"/>
            <a:ext cx="792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Interesting Facts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724 0.07842 C -0.56447 0.06671 -0.49365 0.05402 -0.42015 0.05141 C -0.35971 0.05613 -0.29903 0.05711 -0.23871 0.06589 C -0.20074 0.07126 -0.07119 0.13098 -0.05727 0.1383 C 0.00329 0.17003 0.06251 0.19687 0.09462 0.27676 C 0.10085 0.33257 0.10415 0.33225 0.0884 0.4027 C 0.084 0.42174 0.07582 0.43915 0.06825 0.45623 C 0.00781 0.59225 -0.09658 0.61487 -0.20611 0.62382 C -0.22784 0.62105 -0.25006 0.62219 -0.27131 0.61552 C -0.27937 0.61292 -0.28499 0.60348 -0.29146 0.59697 C -0.31368 0.57436 -0.3232 0.5545 -0.33334 0.5205 C -0.33712 0.4795 -0.34091 0.46257 -0.3287 0.41506 C -0.32552 0.40254 -0.31685 0.39359 -0.31002 0.38415 C -0.29781 0.36674 -0.28511 0.34966 -0.27131 0.33452 C -0.2558 0.31728 -0.24054 0.29987 -0.22479 0.28295 C -0.21832 0.27579 -0.21075 0.27025 -0.20464 0.26228 C -0.17546 0.22323 -0.14713 0.18256 -0.11466 0.14855 C -0.08621 0.11829 -0.06179 0.08086 -0.03712 0.04523 C -0.02674 0.0301 -0.02308 0.02326 -0.01234 0.01025 C -0.00879 0.00586 2.0757E-006 -0.00017 2.0757E-006 -0.00017 E">
                                      <p:cBhvr>
                                        <p:cTn id="25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11480760" cy="66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Didot"/>
                <a:ea typeface="Didot"/>
              </a:rPr>
              <a:t>The most used letter in the English alphabet is ‘E’, and ‘Q’ is the least used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Didot"/>
                <a:ea typeface="Didot"/>
              </a:rPr>
              <a:t>Goddessship is the only word in the English language with a triple letter!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No English words rhyme fully with orange, silver, or month (there are, however, some partial rhymes, or pararhymes, for these words, such as salver for silver and lozenge for orange)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Didot"/>
                <a:ea typeface="Didot"/>
              </a:rPr>
              <a:t>The only three words in the English language to have 2 consecutive ”U’s is vacuum, residuum, and continuum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2971800" y="914400"/>
            <a:ext cx="6934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More Facts!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11480760" cy="75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oldest words in the English language are around 14,000 years old, originating in a pre-Indo-European language group called Nostratic ("our language") by experts. Words from this language group that survive in modern English include apple (apal), bad (bad), gold (gol), and tin (tin)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ypewriter is the longest word typed only with the top row of a standard QWERTY keyboard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895480" y="91440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And more!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11480760" cy="65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longest word in the English language, according to the Oxford English Dictionary, is “pneumonoultramicroscopicsilicovolcanokoniosis”. The only other word with the same amount of letters ispneumonoultra-microscopicsilicovolcanoconioses, its plural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rench was the official language of England for over 600 years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"Four" is the only number whose number of letters in the name equals the number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lnSpc>
                <a:spcPct val="100000"/>
              </a:lnSpc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English is the official language of 53 countries.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2819520" y="914400"/>
            <a:ext cx="716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And even more!!!!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114807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The Origins of Words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Latin: 28.24%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Germanic 25%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Lang d’oil 28.4%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Greek 5.23%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595650"/>
                </a:solidFill>
                <a:latin typeface="Baskerville"/>
              </a:rPr>
              <a:t>Other 8.31%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0" name="Picture 10" descr="SafeRedirect"/>
          <p:cNvPicPr/>
          <p:nvPr/>
        </p:nvPicPr>
        <p:blipFill>
          <a:blip r:embed="rId2"/>
          <a:stretch/>
        </p:blipFill>
        <p:spPr>
          <a:xfrm>
            <a:off x="5410080" y="2438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595650"/>
                </a:solidFill>
                <a:latin typeface="Baskerville"/>
              </a:rPr>
              <a:t>English History 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943600" y="7162920"/>
            <a:ext cx="51055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779400" indent="0">
              <a:lnSpc>
                <a:spcPct val="90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650"/>
              </a:solidFill>
              <a:latin typeface="Baskerville"/>
            </a:endParaRPr>
          </a:p>
          <a:p>
            <a:pPr marL="779400" indent="0">
              <a:lnSpc>
                <a:spcPct val="9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650"/>
                </a:solidFill>
                <a:latin typeface="Baskerville"/>
              </a:rPr>
              <a:t>       </a:t>
            </a:r>
            <a:r>
              <a:rPr b="0" lang="en-GB" sz="2200" spc="-1" strike="noStrike">
                <a:solidFill>
                  <a:srgbClr val="595650"/>
                </a:solidFill>
                <a:latin typeface="Baskerville"/>
              </a:rPr>
              <a:t>The English language is the official language in 53 countries</a:t>
            </a:r>
            <a:endParaRPr b="0" lang="en-US" sz="2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3" name="Picture 4" descr="SafeRedirect"/>
          <p:cNvPicPr/>
          <p:nvPr/>
        </p:nvPicPr>
        <p:blipFill>
          <a:blip r:embed="rId2"/>
          <a:stretch/>
        </p:blipFill>
        <p:spPr>
          <a:xfrm>
            <a:off x="7238880" y="2286000"/>
            <a:ext cx="5410440" cy="4379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Picture 1"/>
          <p:cNvPicPr/>
          <p:nvPr/>
        </p:nvPicPr>
        <p:blipFill>
          <a:blip r:embed="rId3"/>
          <a:stretch/>
        </p:blipFill>
        <p:spPr>
          <a:xfrm>
            <a:off x="2133720" y="4800600"/>
            <a:ext cx="4495680" cy="44006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8"/>
          <p:cNvSpPr/>
          <p:nvPr/>
        </p:nvSpPr>
        <p:spPr>
          <a:xfrm>
            <a:off x="2666880" y="38862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650"/>
                </a:solidFill>
                <a:latin typeface="Baskerville"/>
              </a:rPr>
              <a:t> </a:t>
            </a:r>
            <a:r>
              <a:rPr b="0" lang="en-GB" sz="2400" spc="-1" strike="noStrike">
                <a:solidFill>
                  <a:srgbClr val="595650"/>
                </a:solidFill>
                <a:latin typeface="Baskerville"/>
              </a:rPr>
              <a:t>English is a west Germanic language 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1015920" y="23623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650"/>
                </a:solidFill>
                <a:latin typeface="Baskerville"/>
              </a:rPr>
              <a:t>The first publish english book was Canterbury Tales by Geoffrey Chaucer </a:t>
            </a:r>
            <a:endParaRPr b="0" lang="en-US" sz="2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Bibliographie</a:t>
            </a:r>
            <a:br>
              <a:rPr sz="6400"/>
            </a:b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11480760" cy="731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95650"/>
                </a:solidFill>
                <a:uFillTx/>
                <a:latin typeface="Baskerville"/>
              </a:rPr>
              <a:t>http://www.world-english.org/facts.htm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61840" indent="-554040">
              <a:spcBef>
                <a:spcPts val="2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95650"/>
                </a:solidFill>
                <a:uFillTx/>
                <a:latin typeface="Baskerville"/>
              </a:rPr>
              <a:t>http://www.dumbfacts.com/facts/directory-of-facts/just-dumb/english/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61840" indent="-554040">
              <a:spcBef>
                <a:spcPts val="2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95650"/>
                </a:solidFill>
                <a:uFillTx/>
                <a:latin typeface="Baskerville"/>
              </a:rPr>
              <a:t>www.funshun.com/amazing-facts/language-facts2.htm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61840" indent="-554040">
              <a:spcBef>
                <a:spcPts val="2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95650"/>
                </a:solidFill>
                <a:uFillTx/>
                <a:latin typeface="Baskerville"/>
              </a:rPr>
              <a:t>http://www.sentex.net/~ajy/facts/words.htm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61840" indent="-554040">
              <a:spcBef>
                <a:spcPts val="2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95650"/>
                </a:solidFill>
                <a:uFillTx/>
                <a:latin typeface="Baskerville"/>
              </a:rPr>
              <a:t>http://www.wikipedia.ca/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61840" indent="-554040">
              <a:spcBef>
                <a:spcPts val="2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95650"/>
                </a:solidFill>
                <a:uFillTx/>
                <a:latin typeface="Baskerville"/>
              </a:rPr>
              <a:t>http://www.inglish.com/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8:01:46Z</dcterms:created>
  <dc:creator/>
  <dc:description/>
  <cp:keywords/>
  <dc:language>en-US</dc:language>
  <cp:lastModifiedBy>Kyle Rubenok</cp:lastModifiedBy>
  <dcterms:modified xsi:type="dcterms:W3CDTF">2009-11-24T17:51:43Z</dcterms:modified>
  <cp:revision>20</cp:revision>
  <dc:subject/>
  <dc:title>Little Known English Facts and the History of the English Language</dc:title>
</cp:coreProperties>
</file>